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58F-7F09-446F-8FC5-81FE9152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576-66AD-4788-B0B5-AD1F7F8D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EA8-67DE-4941-8A83-C176A59E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5CD-DC51-4756-A041-7362EB35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830A-0394-4B14-B48E-953952DF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1923-EE6D-4F6A-A1C3-72374B5F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F92B-7F22-4796-90DD-3479B45F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1C58-AB3F-44A9-B4BF-19F19E62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7585-FC4E-4513-8CE2-2F89D69D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E6EE-FE82-4B13-84D8-394AF6D3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9911-A28A-40BD-B635-EB6EAF12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B1A-234F-4378-96FE-57622AAB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5ED1-7D3B-47C5-B285-6FC9FEB1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A6FA-BA08-4A1C-8B0E-A1573C67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1CAB-05D3-482E-9596-8C387CD0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6B60-2CDD-4CC8-8CE2-581867A6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72AB-38C1-4731-988A-04F58F4B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04DED-E8B6-4FDA-A5AD-F0CB5613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64DD5-A29C-48E2-AB09-F3A733AB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5B6A3-92FB-450E-AECB-04B01EC4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6C7AE-7A91-4144-ACBB-761D99AB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7D569-058A-4674-9A7F-18E0DE0D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BB0-1C36-46C8-B422-78028844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27C59-4528-4F58-AE60-284DDE20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3A6B0-0FE4-4070-8B76-8FCBB2AA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BE366-ECCD-4773-824E-6B00595C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49B82-F75A-4282-9F47-E2C1D991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12683-B62D-4055-A50B-189FADCE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6F75D-BC60-4291-8121-920579A0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6A250-5A87-47EF-BFA1-0A4E2B84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415E1-039D-4CD8-8CA8-1BF82DA6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1AAB5-8D50-4557-8033-EF213616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3170C-9EF7-4B2B-B23C-EEC6656C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D2C-647F-4350-B8DF-0BF82776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C4886-A8F8-4FCC-9EF7-18A47B68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6377A-7CAD-4B84-B82E-8AEC35AD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C753E-4FD7-49BA-A9D0-FE9E3544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5E292-F86B-4EEF-98FE-B058A853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7BEDD-0878-4CC2-B714-08CE60CF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B673-830D-40B4-8C14-A551E37D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0C826-CD01-49E9-BD16-84F1C3FB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A7A00-D6FC-44E7-AE47-7206D9AF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88422-2965-44D7-8634-852BF3DB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4E4-927F-4F6E-A6E1-DF856B69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9FB-2E4F-46B8-A0C0-1426C032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929-992F-4A01-B5A2-58C81B82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72F-A506-4876-9C73-AE0E8BAF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0E7-E05D-4744-A368-F66475B3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CFEC-3E2C-453D-BAE9-20AE3D022890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rostokąt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rostokąt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rostokąt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rostokąt zaokrąglony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rostokąt zaokrąglony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rostokąt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rostokąt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rostokąt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rostokąt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31EF-4113-481A-951D-62767A588FD8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7428-343B-468E-95F6-B339B5C1ED22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26EB-BF4E-4271-B45D-A8F95697830B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rebuchet MS"/>
              </a:rPr>
              <a:t>Dodawanie pisemne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16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2484360" y="4581360"/>
            <a:ext cx="42879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18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Dodawanie liczb dwucyfrowych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w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d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4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pod liczbą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drugiej liczby pod jednościami pierwszej liczb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ziesiątki drugiej liczby pod dziesiątkami pierwszej liczb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jako pierwsze dodajemy jedności czyl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+ 4 = 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i podpisujemy pod jednościam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 + 2 = 5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32 + 24 = 5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ole tekstowe 7"/>
          <p:cNvSpPr/>
          <p:nvPr/>
        </p:nvSpPr>
        <p:spPr>
          <a:xfrm>
            <a:off x="716184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3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24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26" name="Grupa 25"/>
          <p:cNvGrpSpPr/>
          <p:nvPr/>
        </p:nvGrpSpPr>
        <p:grpSpPr>
          <a:xfrm>
            <a:off x="6872400" y="3995640"/>
            <a:ext cx="1081080" cy="582480"/>
            <a:chOff x="6872400" y="3995640"/>
            <a:chExt cx="1081080" cy="582480"/>
          </a:xfrm>
        </p:grpSpPr>
        <p:sp>
          <p:nvSpPr>
            <p:cNvPr id="227" name="pole tekstowe 12"/>
            <p:cNvSpPr/>
            <p:nvPr/>
          </p:nvSpPr>
          <p:spPr>
            <a:xfrm>
              <a:off x="7158600" y="39956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8" name="pole tekstowe 13"/>
            <p:cNvSpPr/>
            <p:nvPr/>
          </p:nvSpPr>
          <p:spPr>
            <a:xfrm>
              <a:off x="7158600" y="4209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4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Łącznik prostoliniowy 14"/>
            <p:cNvSpPr/>
            <p:nvPr/>
          </p:nvSpPr>
          <p:spPr>
            <a:xfrm>
              <a:off x="6872400" y="4500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0" name="pole tekstowe 15"/>
            <p:cNvSpPr/>
            <p:nvPr/>
          </p:nvSpPr>
          <p:spPr>
            <a:xfrm>
              <a:off x="6966000" y="414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1" name="pole tekstowe 16"/>
          <p:cNvSpPr/>
          <p:nvPr/>
        </p:nvSpPr>
        <p:spPr>
          <a:xfrm>
            <a:off x="7349040" y="4427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ole tekstowe 23"/>
          <p:cNvSpPr/>
          <p:nvPr/>
        </p:nvSpPr>
        <p:spPr>
          <a:xfrm>
            <a:off x="7158600" y="442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Elipsa 1"/>
          <p:cNvSpPr/>
          <p:nvPr/>
        </p:nvSpPr>
        <p:spPr>
          <a:xfrm>
            <a:off x="7188120" y="4022640"/>
            <a:ext cx="252360" cy="5050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Elipsa 18"/>
          <p:cNvSpPr/>
          <p:nvPr/>
        </p:nvSpPr>
        <p:spPr>
          <a:xfrm>
            <a:off x="7389720" y="4029120"/>
            <a:ext cx="252360" cy="50472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36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Dodawanie liczb trzycyfrowych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liczb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435 + 231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w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435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następnie podpisujemy prawidłowo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31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jednośc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dziesiątk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setki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435 + 231 = 66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 3 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3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4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42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3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4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245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 3 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6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3 1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7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8" name="pole tekstowe 15"/>
            <p:cNvSpPr/>
            <p:nvPr/>
          </p:nvSpPr>
          <p:spPr>
            <a:xfrm>
              <a:off x="6969240" y="450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49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Elipsa 1"/>
          <p:cNvSpPr/>
          <p:nvPr/>
        </p:nvSpPr>
        <p:spPr>
          <a:xfrm>
            <a:off x="7596360" y="4357800"/>
            <a:ext cx="266400" cy="55224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Elipsa 19"/>
          <p:cNvSpPr/>
          <p:nvPr/>
        </p:nvSpPr>
        <p:spPr>
          <a:xfrm>
            <a:off x="7373880" y="4357800"/>
            <a:ext cx="268200" cy="55224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Elipsa 20"/>
          <p:cNvSpPr/>
          <p:nvPr/>
        </p:nvSpPr>
        <p:spPr>
          <a:xfrm>
            <a:off x="7184880" y="4365720"/>
            <a:ext cx="266760" cy="55080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5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with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7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51" nodeType="after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56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liczb: 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45 + 36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13372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dpisujemy prawidłowo liczb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jednośc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+ 6 = 11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to 1 dziesiątka i 1 jedność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w rzędzie jedności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dziesiątkę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pisujemy do rzędu dziesiątek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dziesiątk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+ 4 + 3 = 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sumie w rzędzie dziesiątek wpisujemy 8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45 + 36 = 8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 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ole tekstowe 7"/>
          <p:cNvSpPr/>
          <p:nvPr/>
        </p:nvSpPr>
        <p:spPr>
          <a:xfrm>
            <a:off x="716184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62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3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64" name="Grupa 25"/>
          <p:cNvGrpSpPr/>
          <p:nvPr/>
        </p:nvGrpSpPr>
        <p:grpSpPr>
          <a:xfrm>
            <a:off x="6875640" y="4211640"/>
            <a:ext cx="1081080" cy="582480"/>
            <a:chOff x="6875640" y="4211640"/>
            <a:chExt cx="1081080" cy="582480"/>
          </a:xfrm>
        </p:grpSpPr>
        <p:sp>
          <p:nvSpPr>
            <p:cNvPr id="265" name="pole tekstowe 12"/>
            <p:cNvSpPr/>
            <p:nvPr/>
          </p:nvSpPr>
          <p:spPr>
            <a:xfrm>
              <a:off x="7161840" y="42116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 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pole tekstowe 13"/>
            <p:cNvSpPr/>
            <p:nvPr/>
          </p:nvSpPr>
          <p:spPr>
            <a:xfrm>
              <a:off x="7161840" y="4425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6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Łącznik prostoliniowy 14"/>
            <p:cNvSpPr/>
            <p:nvPr/>
          </p:nvSpPr>
          <p:spPr>
            <a:xfrm>
              <a:off x="6875640" y="4716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8" name="pole tekstowe 15"/>
            <p:cNvSpPr/>
            <p:nvPr/>
          </p:nvSpPr>
          <p:spPr>
            <a:xfrm>
              <a:off x="6969240" y="4362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69" name="pole tekstowe 16"/>
          <p:cNvSpPr/>
          <p:nvPr/>
        </p:nvSpPr>
        <p:spPr>
          <a:xfrm>
            <a:off x="7352280" y="4643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ole tekstowe 26"/>
          <p:cNvSpPr/>
          <p:nvPr/>
        </p:nvSpPr>
        <p:spPr>
          <a:xfrm>
            <a:off x="7155360" y="398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ole tekstowe 27"/>
          <p:cNvSpPr/>
          <p:nvPr/>
        </p:nvSpPr>
        <p:spPr>
          <a:xfrm>
            <a:off x="7142760" y="465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Elipsa 1"/>
          <p:cNvSpPr/>
          <p:nvPr/>
        </p:nvSpPr>
        <p:spPr>
          <a:xfrm>
            <a:off x="7380360" y="4211640"/>
            <a:ext cx="245880" cy="50472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Elipsa 19"/>
          <p:cNvSpPr/>
          <p:nvPr/>
        </p:nvSpPr>
        <p:spPr>
          <a:xfrm>
            <a:off x="7188120" y="3986280"/>
            <a:ext cx="246240" cy="74916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75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75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with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with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0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75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75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75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75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75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Dodawanie liczb trzycyfrowych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liczb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124 + 349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podpisujemy prawidłowo liczby</a:t>
            </a:r>
            <a:br>
              <a:rPr sz="1300"/>
            </a:b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dodajemy jedności: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4 + 9 = 13</a:t>
            </a:r>
            <a:br>
              <a:rPr sz="1300"/>
            </a:b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13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 to 1 dziesiątka i 3 jedności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w rzędzie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wpisujemy 3 jedności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600" spc="-1" strike="noStrike">
                <a:solidFill>
                  <a:srgbClr val="00b050"/>
                </a:solidFill>
                <a:latin typeface="Georgia"/>
              </a:rPr>
              <a:t>1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 dziesiątkę dopisujemy do rzędu dziesiątek</a:t>
            </a:r>
            <a:br>
              <a:rPr sz="1300"/>
            </a:b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dodajemy dziesiątki </a:t>
            </a:r>
            <a:r>
              <a:rPr b="1" lang="pl-PL" sz="1300" spc="-1" strike="noStrike">
                <a:solidFill>
                  <a:srgbClr val="00b050"/>
                </a:solidFill>
                <a:latin typeface="Georgia"/>
              </a:rPr>
              <a:t>1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+ 2 + 4 = 7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w rzędzie dziesiątek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wpisujemy 7</a:t>
            </a:r>
            <a:br>
              <a:rPr sz="1300"/>
            </a:b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dodajemy setki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124 + 349 = 473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 2 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4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0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81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2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83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284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2 4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4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6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7" name="pole tekstowe 15"/>
            <p:cNvSpPr/>
            <p:nvPr/>
          </p:nvSpPr>
          <p:spPr>
            <a:xfrm>
              <a:off x="6969240" y="450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88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ole tekstowe 18"/>
          <p:cNvSpPr/>
          <p:nvPr/>
        </p:nvSpPr>
        <p:spPr>
          <a:xfrm>
            <a:off x="734760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Elipsa 1"/>
          <p:cNvSpPr/>
          <p:nvPr/>
        </p:nvSpPr>
        <p:spPr>
          <a:xfrm>
            <a:off x="7561440" y="4379760"/>
            <a:ext cx="250560" cy="5050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Elipsa 20"/>
          <p:cNvSpPr/>
          <p:nvPr/>
        </p:nvSpPr>
        <p:spPr>
          <a:xfrm>
            <a:off x="7391520" y="4149720"/>
            <a:ext cx="250560" cy="73512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Elipsa 21"/>
          <p:cNvSpPr/>
          <p:nvPr/>
        </p:nvSpPr>
        <p:spPr>
          <a:xfrm>
            <a:off x="7188120" y="4379760"/>
            <a:ext cx="250920" cy="5050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75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75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75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7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75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75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96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396 + 29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podpisujemy prawidłowo liczby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dodajemy jedności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6 + 9 = 15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15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to 1 dziesiątka i 5 jedności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w rzędzie jedności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wpisujemy 5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300" spc="-1" strike="noStrike">
                <a:solidFill>
                  <a:srgbClr val="00b050"/>
                </a:solidFill>
                <a:latin typeface="Georgia"/>
              </a:rPr>
              <a:t>1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dziesiątkę dopisujemy do rzędu dziesiątek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dodajemy dziesiątki </a:t>
            </a:r>
            <a:r>
              <a:rPr b="1" lang="pl-PL" sz="1100" spc="-1" strike="noStrike">
                <a:solidFill>
                  <a:srgbClr val="00b050"/>
                </a:solidFill>
                <a:latin typeface="Georgia"/>
              </a:rPr>
              <a:t>1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+ 9 + 2 = 12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12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pl-PL" sz="1100" spc="-1" strike="noStrike">
                <a:solidFill>
                  <a:srgbClr val="00b0f0"/>
                </a:solidFill>
                <a:latin typeface="Georgia"/>
              </a:rPr>
              <a:t>1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setka i 2 jedności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w rzędzie dziesiątek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wpisujemy 2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300" spc="-1" strike="noStrike">
                <a:solidFill>
                  <a:srgbClr val="00b0f0"/>
                </a:solidFill>
                <a:latin typeface="Georgia"/>
              </a:rPr>
              <a:t>1</a:t>
            </a:r>
            <a:r>
              <a:rPr b="0" lang="pl-PL" sz="1100" spc="-1" strike="noStrike">
                <a:solidFill>
                  <a:srgbClr val="00b0f0"/>
                </a:solidFill>
                <a:latin typeface="Georgia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setkę dopisujemy do rzędu setek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dodajemy setki </a:t>
            </a:r>
            <a:r>
              <a:rPr b="1" lang="pl-PL" sz="1100" spc="-1" strike="noStrike">
                <a:solidFill>
                  <a:srgbClr val="00b0f0"/>
                </a:solidFill>
                <a:latin typeface="Georgia"/>
              </a:rPr>
              <a:t>1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+ 3 = 4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396 + 29 = 425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9 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ole tekstowe 7"/>
          <p:cNvSpPr/>
          <p:nvPr/>
        </p:nvSpPr>
        <p:spPr>
          <a:xfrm>
            <a:off x="734760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0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302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3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04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305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9 6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6" name="pole tekstowe 13"/>
            <p:cNvSpPr/>
            <p:nvPr/>
          </p:nvSpPr>
          <p:spPr>
            <a:xfrm>
              <a:off x="7175880" y="4572000"/>
              <a:ext cx="68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   </a:t>
              </a: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7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8" name="pole tekstowe 15"/>
            <p:cNvSpPr/>
            <p:nvPr/>
          </p:nvSpPr>
          <p:spPr>
            <a:xfrm>
              <a:off x="6969240" y="450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09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ole tekstowe 18"/>
          <p:cNvSpPr/>
          <p:nvPr/>
        </p:nvSpPr>
        <p:spPr>
          <a:xfrm>
            <a:off x="734760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ole tekstowe 19"/>
          <p:cNvSpPr/>
          <p:nvPr/>
        </p:nvSpPr>
        <p:spPr>
          <a:xfrm>
            <a:off x="714276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Elipsa 1"/>
          <p:cNvSpPr/>
          <p:nvPr/>
        </p:nvSpPr>
        <p:spPr>
          <a:xfrm>
            <a:off x="7564320" y="4367160"/>
            <a:ext cx="247680" cy="50184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Elipsa 21"/>
          <p:cNvSpPr/>
          <p:nvPr/>
        </p:nvSpPr>
        <p:spPr>
          <a:xfrm>
            <a:off x="7377120" y="4218120"/>
            <a:ext cx="247680" cy="6508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Elipsa 22"/>
          <p:cNvSpPr/>
          <p:nvPr/>
        </p:nvSpPr>
        <p:spPr>
          <a:xfrm>
            <a:off x="7164360" y="4218120"/>
            <a:ext cx="249120" cy="6508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7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7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25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75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75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" nodeType="with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7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25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75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75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with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7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7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25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7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75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75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1T12:43:16Z</dcterms:modified>
  <cp:revision>46</cp:revision>
  <dc:subject/>
  <dc:title>Prezentacja programu PowerPoint</dc:title>
</cp:coreProperties>
</file>